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DB7-6D8D-4FF3-B86F-9DCD5B65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DE9B-7AD8-428F-BEB9-7A615EE4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7E81-42A4-4EA3-8D7E-96B82525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9290-180F-4AF7-9BD5-95206C17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FF3-838D-441C-B4C4-FE486C31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9DE6-1158-4103-B9D7-E0F3AA14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3B56-DDA9-4EDC-BA76-519B5B53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0763-197C-411F-BBB4-0ABAF8B0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921D-3C53-4538-949F-72F983C8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C4D5-C050-4068-BB42-8B0E0D05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96E7-BF0E-44EE-8ADE-4B6C5105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4E45-2E6A-4C6B-A3C3-EC951C8A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0C63-3726-4DFE-AB0E-8611B500A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S Remoting and Composite U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ney Boisv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il 20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land CF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c or Asyn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ous c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ppen in normal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returned norm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ynchronous c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ppen in a separate th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returned via ca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kits usually abstract and always return via call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site U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-centric UI (apps from the ‘90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deve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bilit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-rewriting UI (GMa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to deve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very 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ite UI (more and more ap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ly easy to deve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very 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it useful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task that MUST be performed server-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ing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ling i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ing statuses (e.g. lock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rule 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abi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JS remoting is often additive, not manipul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ect degre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rages your existing skills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ML and CSS 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 for dynamic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can incorporate server-side data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’s u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ally like any other JS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syntax (for dealing with options and callbac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ly transparent to your JS (aside from the libra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my Soapbox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don’t use version control, start (Subversion is my cho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don’t use a mainstream framework, start (I don’t care whi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’re writing non-SELECT SQL, s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don’t use CFEclipse, start (Eclipse is to powerful to ski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don’t read developer blogs, start (FullAsAGoog, MX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rem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it useful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’s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JAX (Asynchronous Javascript And X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S Remo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 re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e-centric 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released IE5 in 1998 with XmlHttpRequest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1.0 has XmlHttp support in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JAX gets coined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emo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access w/o page refre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n’t do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 vs Web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ly sup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request param 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response param 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ly unsup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initial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request param 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response param 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string (well suppor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body is a query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for simple stu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esca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art (less well suppor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body is a series of parts (a form p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for complex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scaping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 text (i.e. an HTML p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omplex data, unless manually serialized/deserial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su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marshalling/unmarsh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-directional passing of complex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mancer is only toolkit with support I’m awar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processing WSDL for every page load (very expensive with large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4:09:17Z</dcterms:created>
  <dc:creator>Barney Boisvert</dc:creator>
  <dc:description/>
  <dc:language>en-US</dc:language>
  <cp:lastModifiedBy>Barney Boisvert</cp:lastModifiedBy>
  <cp:lastPrinted>1904-01-01T00:00:00Z</cp:lastPrinted>
  <dcterms:modified xsi:type="dcterms:W3CDTF">2006-04-17T22:08:00Z</dcterms:modified>
  <cp:revision>27</cp:revision>
  <dc:subject/>
  <dc:title>PowerPoint Presentation</dc:title>
</cp:coreProperties>
</file>